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BA3F-3DCB-4D5A-A8C5-13F2AA53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BB1F-A075-4BCF-BD6A-FB48C07B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7339-D791-4D0E-9434-2A70B354D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017D-01E3-4D7C-BC14-A03421266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0A43-D19E-4BB9-A4D8-29BE4C21F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BEF3-0B42-41FF-B2B0-80688F87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4626-9A8B-495A-BB5E-58BC9B7E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D4A6-C1B0-4FB4-9528-81F648D3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3FAC-A833-4DB7-95E1-18265131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42CE-4F74-4356-9005-59868A2C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BAF7-1C0A-4B3C-9644-835FFD1F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65A0-AADF-4089-AD45-3D787900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4FB3-5DA8-4E5D-8D65-D785BA0D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6305-DE0D-4E52-A9AA-D74EAD40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33A3-DB88-4885-83ED-F9AA6B23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2F42-FBCA-4231-9ADB-57D3EB40E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9710-9391-432D-B8B3-A400E9F25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0EB9-9C41-4E63-8B56-AAD142EA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F22B-9A2E-4833-9D10-13C7A8F4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1B06-7DA2-40F1-809D-04820ADA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844F-F50C-4F57-B2FB-07132778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22ED-FFAD-4C05-8696-1B532F1C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CC16-6E32-4367-B66B-56725CF2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26BB-743C-40DB-9C0F-56D1FBAB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5F53-68D4-4FFD-9E1E-0F7BE4AFCA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043F-7F3E-4A3E-A7A2-906CCF328D8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e Conditionnel Passé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rançais IV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Past Conditional = Conditional Perfect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Le conditionnel passé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in French consists of the conditional form of the auxillary verb (avoir or etre) plus a past participl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s verb translates as “would have/ should have / could have done something”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orma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AVOIR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J’aurais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ous aurion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u aurais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Vous auriez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l/elle/on aurait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ls/elles auraien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+ a past participl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EX: I would have finished my homework, but I had to work after school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J’aurais fini</a:t>
            </a: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 mes devoirs, mais j’avais dû travailler après l’école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ormation, cont’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ETRE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J’serais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ous serion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u serais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Vous seriez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l/elle/on serait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ls/elles seraien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+ a past participl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EX: She would have gone out with him if he hadn’t stood her up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Elle serait sortie avec lui si il ne l’avait pas posé de lapin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ommon Us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ast conditional is very often used with the following expressions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You should have…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Tu aurais dû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(or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you shouldn’t have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 – tu n’aurais pas dû…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You could have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…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  Tu aurais pu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i Claus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n French, there are clauses that are the equivalent of “if…then” clauses in English.  In the perfect tenses,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si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lauses are formed by following this pattern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Use </a:t>
            </a: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plus-que-parfait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n the </a:t>
            </a: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SI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LAUSE (if…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Use </a:t>
            </a: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conditionnel passé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n the MAIN CLAUSE (then…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lus-que-Parfai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emember: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plus-que-parfait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s formed by using the IMPARFAIT of avoir/etre plus a past participl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VOIR: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TRE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tem: av-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tem: ét-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PLUS -ais, ais, ait, ions, iez, aient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X: J’avais fini – I had finishe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lle était sortie – she had gone ou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i Clause Exampl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 j’avais étudié pour mon examen, je l’aurais réussi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athilde serait allée au concert si nous lui avions telephoné plus tôt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u aurais dû telephoner à tes parents si tu avais su que tu serais en retard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3:00:16Z</dcterms:created>
  <dc:creator>corinne.hayes</dc:creator>
  <dc:description/>
  <dc:language>en-US</dc:language>
  <cp:lastModifiedBy>pluckett</cp:lastModifiedBy>
  <dcterms:modified xsi:type="dcterms:W3CDTF">2014-04-11T15:49:09Z</dcterms:modified>
  <cp:revision>3</cp:revision>
  <dc:subject/>
  <dc:title>Le Conditionnel Passé</dc:title>
</cp:coreProperties>
</file>